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B55C766-30E7-4588-96F6-E0EB18BCA13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ED3574E-4B29-4A0B-BC87-EA71EA7EABA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693720" y="739800"/>
            <a:ext cx="5346720" cy="3701880"/>
          </a:xfrm>
          <a:prstGeom prst="rect">
            <a:avLst/>
          </a:prstGeom>
          <a:ln w="0">
            <a:noFill/>
          </a:ln>
        </p:spPr>
      </p:sp>
      <p:sp>
        <p:nvSpPr>
          <p:cNvPr id="31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93720" y="739800"/>
            <a:ext cx="5346720" cy="3701880"/>
          </a:xfrm>
          <a:prstGeom prst="rect">
            <a:avLst/>
          </a:prstGeom>
          <a:ln w="0">
            <a:noFill/>
          </a:ln>
        </p:spPr>
      </p:sp>
      <p:sp>
        <p:nvSpPr>
          <p:cNvPr id="32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0162E56-B617-4B13-B17E-599E1241482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695160" y="739800"/>
            <a:ext cx="5345280" cy="3701880"/>
          </a:xfrm>
          <a:prstGeom prst="rect">
            <a:avLst/>
          </a:prstGeom>
          <a:ln w="0">
            <a:noFill/>
          </a:ln>
        </p:spPr>
      </p:sp>
      <p:sp>
        <p:nvSpPr>
          <p:cNvPr id="327"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839EAB-EDD8-4DB1-A689-55AF7FEAFB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77DFA4-8C51-4A8E-A17B-C77C424D35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48DCDA-6AA3-463C-BC8D-9522E2CE5A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57152A-0946-4113-92C0-2CCB0FED68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C62C48-BBA7-4DB1-9F44-62F8570175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6AD36-74F7-445A-BF99-4674B98B9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0CA50-4040-4B8B-8752-35FD4412E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28DCC-546C-4B24-8AEC-6A073715C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C8E9A-9729-4970-B577-EFEFB5690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BB960-3990-4ACE-8EED-11671BDB3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E3FFC-3407-4DEC-91BE-CC518946E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FF593F-8172-4802-9DB1-8E0E911B09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AA70F-02F6-4459-A772-04501D302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0AF11-C5E1-4818-A576-064F051BF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0EC00-EE4B-45B4-A184-A77039F23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7419D6-055A-4694-85C8-A82A55998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7986C1-08F0-4DB4-ACC9-FB13CBD21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722AB3-2856-42F0-876F-09A7CC7502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594351-ED88-4D3A-BAB7-1C200E86F3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AA42B8-5E45-4B3B-9B48-263D72FB34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B669E1-7C48-4BC7-B486-6E262CB98B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5F7AD8-C468-4D7D-A0AA-6B7C9829C7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5A259F-A38D-4500-BB16-13F8851803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3FB267-43F2-4D65-867F-AC79A833FE4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739D-B254-45A1-9870-91E382180F1B}"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6C5B-1131-49C5-A13F-938928E3ED11}"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3AB4FD1D-3834-4698-AFEA-47A198E940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1C06A21D-EB39-469B-AD72-95EDDC426B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0D494C8C-8319-4301-A1F5-D890F07C04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F9CD5B9C-358B-458B-8113-8C5C01D683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3A7488E4-850E-44C0-844E-41DD558867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42635C4C-E30C-456F-A8C6-33B2965562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0879E26C-C933-459E-82EA-BA17CF85E760}"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4FF4929E-EEF9-469C-998D-30F1743C86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C24DAFF2-9B10-4CD5-B88D-961E209600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F2870C03-B471-473F-8FE1-36ECD26CAF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A0B847DB-72C4-45BA-96D2-4BEA50AE05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28600" y="2789280"/>
            <a:ext cx="4724280" cy="3373560"/>
          </a:xfrm>
          <a:prstGeom prst="rect">
            <a:avLst/>
          </a:prstGeom>
          <a:ln w="0">
            <a:noFill/>
          </a:ln>
        </p:spPr>
      </p:pic>
      <p:sp>
        <p:nvSpPr>
          <p:cNvPr id="153"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154"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155"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15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5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162"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F9723610-BA3D-49C9-8CEF-BA06CB940D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165"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166"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16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6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304920" y="2438280"/>
            <a:ext cx="4114800" cy="3826080"/>
          </a:xfrm>
          <a:prstGeom prst="rect">
            <a:avLst/>
          </a:prstGeom>
          <a:ln w="0">
            <a:noFill/>
          </a:ln>
        </p:spPr>
      </p:pic>
      <p:sp>
        <p:nvSpPr>
          <p:cNvPr id="173"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174"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175"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DEF042B3-212F-4D5B-9184-EDD94CA7FC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741240" y="2133720"/>
            <a:ext cx="8402760" cy="4084200"/>
            <a:chOff x="741240" y="2133720"/>
            <a:chExt cx="8402760" cy="4084200"/>
          </a:xfrm>
        </p:grpSpPr>
        <p:sp>
          <p:nvSpPr>
            <p:cNvPr id="179"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80"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81"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82"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83"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84"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85"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86"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87"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88"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89"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90"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91"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92"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93"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94"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95"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96"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97"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98"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99"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200"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201"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202"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203"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204"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205"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206"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7"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209"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210"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211"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212"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213"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214"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215"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216"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217"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21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B1B2F17-1755-4229-9A9C-0CA1E74B15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838080" y="1905120"/>
            <a:ext cx="7467840" cy="4303440"/>
          </a:xfrm>
          <a:prstGeom prst="rect">
            <a:avLst/>
          </a:prstGeom>
          <a:ln w="0">
            <a:noFill/>
          </a:ln>
        </p:spPr>
      </p:pic>
      <p:sp>
        <p:nvSpPr>
          <p:cNvPr id="224"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225"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27"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28"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29"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30"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32"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3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3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BF019482-FCA9-40AB-BB1B-D5E3F014BE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disasi</cp:lastModifiedBy>
  <cp:lastPrinted>2004-08-09T23:39:53Z</cp:lastPrinted>
  <dcterms:modified xsi:type="dcterms:W3CDTF">2004-10-11T18:25:43Z</dcterms:modified>
  <cp:revision>269</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1724858</vt:r8>
  </property>
  <property fmtid="{D5CDD505-2E9C-101B-9397-08002B2CF9AE}" pid="3" name="_AuthorEmailDisplayName">
    <vt:lpwstr>Diego Isasi</vt:lpwstr>
  </property>
  <property fmtid="{D5CDD505-2E9C-101B-9397-08002B2CF9AE}" pid="4" name="_EmailSubject">
    <vt:lpwstr>Presentación para profesores y periodistas 7-10-04.ppt</vt:lpwstr>
  </property>
</Properties>
</file>